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2.jpeg" ContentType="image/jpeg"/>
  <Override PartName="/ppt/media/image36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42.jpeg" ContentType="image/jpeg"/>
  <Override PartName="/ppt/media/image34.png" ContentType="image/png"/>
  <Override PartName="/ppt/media/image12.jpeg" ContentType="image/jpeg"/>
  <Override PartName="/ppt/media/image3.jpeg" ContentType="image/jpeg"/>
  <Override PartName="/ppt/media/image37.jpeg" ContentType="image/jpeg"/>
  <Override PartName="/ppt/media/image28.png" ContentType="image/png"/>
  <Override PartName="/ppt/media/image38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powerpointstyles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4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36" descr="fddsf fsdf zfef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762444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age </a:t>
            </a:r>
            <a:fld id="{D82FF13E-EDC2-494D-A680-0552D701CD9D}" type="slidenum">
              <a:rPr b="1" lang="fr-F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owerpointstyles.com/" TargetMode="External"/><Relationship Id="rId2" Type="http://schemas.openxmlformats.org/officeDocument/2006/relationships/image" Target="../media/image2.jpeg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4.xml"/><Relationship Id="rId6" Type="http://schemas.openxmlformats.org/officeDocument/2006/relationships/slide" Target="slide11.xml"/><Relationship Id="rId7" Type="http://schemas.openxmlformats.org/officeDocument/2006/relationships/slide" Target="slide3.xml"/><Relationship Id="rId8" Type="http://schemas.openxmlformats.org/officeDocument/2006/relationships/slide" Target="slide5.xml"/><Relationship Id="rId9" Type="http://schemas.openxmlformats.org/officeDocument/2006/relationships/slide" Target="slide6.xml"/><Relationship Id="rId10" Type="http://schemas.openxmlformats.org/officeDocument/2006/relationships/slide" Target="slide7.xml"/><Relationship Id="rId11" Type="http://schemas.openxmlformats.org/officeDocument/2006/relationships/slide" Target="slide8.xml"/><Relationship Id="rId12" Type="http://schemas.openxmlformats.org/officeDocument/2006/relationships/slide" Target="slide9.xml"/><Relationship Id="rId13" Type="http://schemas.openxmlformats.org/officeDocument/2006/relationships/slide" Target="slide10.xml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juniorblogger.files.wordpress.com/2007/10/sun.png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www.google.ro/imgres?imgurl=http://sorinalukacs.files.wordpress.com/2009/03/mama_si_copilul_de_tonitza.jpg&amp;imgrefurl=http://sorinalukacs.wordpress.com/2009/03/03/motive-de-recunostinta-pentru-mama-tot-e-pe-aproape-ziua-femeii/&amp;usg=__IyxznjYrfsQigZSUpdQ60QHqnhU=&amp;h=401&amp;w=400&amp;sz=26&amp;hl=ro&amp;start=15&amp;zoom=1&amp;itbs=1&amp;tbnid=FMrqm8JQVwxqDM:&amp;tbnh=124&amp;tbnw=124&amp;prev=/images%3Fq%3Dmama%26hl%3Dro%26gbv%3D2%26tbs%3Disch:1" TargetMode="External"/><Relationship Id="rId5" Type="http://schemas.openxmlformats.org/officeDocument/2006/relationships/image" Target="../media/image5.jpeg"/><Relationship Id="rId6" Type="http://schemas.openxmlformats.org/officeDocument/2006/relationships/hyperlink" Target="http://www.google.ro/imgres?imgurl=http://www.firmeproduse.ro/pictures/p0912/maruntoiu1259833963.jpg&amp;imgrefurl=http://www.firmeproduse.ro/catalog/9579/Icoana%2BIisus%2BHristos%2BProniatorul.html&amp;usg=__feoSDPaT8Xa4OR68Y0Eh_fKKOHc=&amp;h=533&amp;w=387&amp;sz=89&amp;hl=ro&amp;start=5&amp;zoom=1&amp;itbs=1&amp;tbnid=QDFL2LvkTvj_9M:&amp;tbnh=132&amp;tbnw=96&amp;prev=/images%3Fq%3Dicoana%2Biisus%2Bhristos%26hl%3Dro%26gbv%3D2%26tbs%3Disch:1" TargetMode="External"/><Relationship Id="rId7" Type="http://schemas.openxmlformats.org/officeDocument/2006/relationships/image" Target="../media/image6.jpeg"/><Relationship Id="rId8" Type="http://schemas.openxmlformats.org/officeDocument/2006/relationships/hyperlink" Target="http://www.google.ro/imgres?imgurl=http://www.psihohipnoza.ro/wp-content/uploads/2007/12/inima.gif&amp;imgrefurl=http://www.psihohipnoza.ro/povesti-terapeutice/povestea-inimii/&amp;usg=__8yhvw_KFzs0dzkz2Cor7kK9BsqQ=&amp;h=283&amp;w=283&amp;sz=37&amp;hl=ro&amp;start=3&amp;zoom=1&amp;itbs=1&amp;tbnid=RFm7djS4H6TVMM:&amp;tbnh=114&amp;tbnw=114&amp;prev=/images%3Fq%3Dinima%26hl%3Dro%26gbv%3D2%26tbs%3Disch:1" TargetMode="External"/><Relationship Id="rId9" Type="http://schemas.openxmlformats.org/officeDocument/2006/relationships/image" Target="../media/image7.jpeg"/><Relationship Id="rId10" Type="http://schemas.openxmlformats.org/officeDocument/2006/relationships/hyperlink" Target="http://www.google.ro/imgres?imgurl=http://www.femei-moderne.ro/images/articles/big/vTOdm-buze-catifelate.jpeg&amp;imgrefurl=http://www.femei-moderne.ro/articol/frumusete/buze-catifelate,846.html&amp;usg=__VMIcRUTD5r8wyNdkrVxSdWG5HqU=&amp;h=220&amp;w=230&amp;sz=6&amp;hl=ro&amp;start=53&amp;zoom=1&amp;itbs=1&amp;tbnid=tEeOkJ3yhVkjfM:&amp;tbnh=103&amp;tbnw=108&amp;prev=/images%3Fq%3Dbuze%26start%3D40%26hl%3Dro%26sa%3DN%26gbv%3D2%26ndsp%3D20%26tbs%3Disch:1" TargetMode="External"/><Relationship Id="rId11" Type="http://schemas.openxmlformats.org/officeDocument/2006/relationships/image" Target="../media/image8.jpeg"/><Relationship Id="rId12" Type="http://schemas.openxmlformats.org/officeDocument/2006/relationships/hyperlink" Target="http://www.google.ro/imgres?imgurl=http://static-p4.fotolia.com/jpg/00/15/97/53/400_F_15975366_JXkhM48M7JJ2bPwQJqNhCK8T5COsphyz.jpg&amp;imgrefurl=http://www.fotolia.com/id/15975366&amp;usg=__cdIJwcaUi7CR8g8gSTiL4l2HAbk=&amp;h=400&amp;w=400&amp;sz=23&amp;hl=ro&amp;start=39&amp;zoom=1&amp;itbs=1&amp;tbnid=etHnSGC6DQzxLM:&amp;tbnh=124&amp;tbnw=124&amp;prev=/images%3Fq%3Dcartoon%2Bmoon%26start%3D20%26hl%3Dro%26sa%3DN%26gbv%3D2%26ndsp%3D20%26tbs%3Disch:1" TargetMode="External"/><Relationship Id="rId13" Type="http://schemas.openxmlformats.org/officeDocument/2006/relationships/image" Target="../media/image9.jpeg"/><Relationship Id="rId14" Type="http://schemas.openxmlformats.org/officeDocument/2006/relationships/slide" Target=""/><Relationship Id="rId15" Type="http://schemas.openxmlformats.org/officeDocument/2006/relationships/image" Target="../media/image10.jpeg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ro/imgres?imgurl=http://anticariatultau.ro/test/Pungura_cu_doi_bani--Ion_Creanga_21477.jpg&amp;imgrefurl=http://anticariatultau.ro/index.php%3Fcontroller%3Dproduct%26path%3D44%26product_id%3D19481&amp;usg=__ffFFjLPHZtKL_6gu5yc-T3xoHoY=&amp;h=760&amp;w=609&amp;sz=82&amp;hl=ro&amp;start=17&amp;zoom=1&amp;itbs=1&amp;tbnid=DZBy3O-38nBjiM:&amp;tbnh=142&amp;tbnw=114&amp;prev=/images%3Fq%3Dpunguta%2Bcu%2Bdoi%2Bbani%2Bcoperta%26hl%3Dro%26gbv%3D2%26tbs%3Disch:1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www.google.ro/imgres?imgurl=http://www.clker.com/cliparts/7/0/2/4/12178631741516677465sven222_Cartoon_Eyes_1.svg.hi.png&amp;imgrefurl=http://www.clker.com/clipart-cartoon-eyes.html&amp;usg=__cE6wWAy9Xgp-k1XCuRhcUQadoVQ=&amp;h=165&amp;w=600&amp;sz=23&amp;hl=ro&amp;start=24&amp;zoom=1&amp;itbs=1&amp;tbnid=sQLppe_kjNA6kM:&amp;tbnh=37&amp;tbnw=135&amp;prev=/images%3Fq%3Deyes%2Bcartoon%26start%3D20%26hl%3Dro%26sa%3DN%26gbv%3D2%26ndsp%3D20%26tbs%3Disch:1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www.google.ro/imgres?imgurl=http://www.how-to-draw-funny-cartoons.com/image-files/cartoon-bicycle-7.gif&amp;imgrefurl=http://www.how-to-draw-funny-cartoons.com/cartoon-bicycle.html&amp;usg=__2jQOdFjccMc5xm8GgQER8SoSArA=&amp;h=250&amp;w=400&amp;sz=20&amp;hl=ro&amp;start=1&amp;zoom=1&amp;itbs=1&amp;tbnid=S0Cw3zlwLtftOM:&amp;tbnh=78&amp;tbnw=124&amp;prev=/images%3Fq%3Dbycicle%2Bcartoon%26hl%3Dro%26sa%3DN%26gbv%3D2%26ndsp%3D20%26tbs%3Disch:1" TargetMode="External"/><Relationship Id="rId6" Type="http://schemas.openxmlformats.org/officeDocument/2006/relationships/image" Target="../media/image13.jpeg"/><Relationship Id="rId7" Type="http://schemas.openxmlformats.org/officeDocument/2006/relationships/hyperlink" Target="http://www.dungarvin.com/images/helpinghands.gif" TargetMode="External"/><Relationship Id="rId8" Type="http://schemas.openxmlformats.org/officeDocument/2006/relationships/image" Target="../media/image14.jpeg"/><Relationship Id="rId9" Type="http://schemas.openxmlformats.org/officeDocument/2006/relationships/slide" Target="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ogle.ro/imgres?imgurl=http://apologeticum.files.wordpress.com/2010/01/sfanta-treime-de-sf-andrei-rubliov.jpeg&amp;imgrefurl=https://apologeticum.wordpress.com/2010/01/21/aviz-sinodalilor-bor-enciclica-patriarhului-fotie-catre-patriarhii-rasariteni/&amp;usg=__SSsIxh8e2roAG-ncbfhPqnN-fUM=&amp;h=636&amp;w=512&amp;sz=108&amp;hl=ro&amp;start=2&amp;zoom=1&amp;itbs=1&amp;tbnid=EbA3qWl0Mk98IM:&amp;tbnh=137&amp;tbnw=110&amp;prev=/images%3Fq%3Dsfanta%2Btreime%2Brubliov%26hl%3Dro%26gbv%3D2%26tbs%3Disch:1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www.google.ro/imgres?imgurl=http://1.bp.blogspot.com/_wzKtZy5Zcds/S-uyaCdzkrI/AAAAAAAAAVs/kevKtrDGGnI/s1600/magi_amended.jpg&amp;imgrefurl=http://daniel-rodgers.blogspot.com/2010/05/3-magi-approach-bethlehem.html&amp;usg=__nXDDYUTD4Dmph_Tr7EaQ1neSp9Y=&amp;h=425&amp;w=595&amp;sz=29&amp;hl=ro&amp;start=41&amp;zoom=1&amp;itbs=1&amp;tbnid=VE2LZDwF5XIHXM:&amp;tbnh=96&amp;tbnw=135&amp;prev=/images%3Fq%3D3%2Bmagi%26start%3D40%26hl%3Dro%26sa%3DN%26gbv%3D2%26ndsp%3D20%26tbs%3Disch:1" TargetMode="External"/><Relationship Id="rId4" Type="http://schemas.openxmlformats.org/officeDocument/2006/relationships/image" Target="../media/image16.jpeg"/><Relationship Id="rId5" Type="http://schemas.openxmlformats.org/officeDocument/2006/relationships/hyperlink" Target="http://www.google.ro/imgres?imgurl=http://www.clker.com/cliparts/1/8/7/c/12408472991125931808JazzyNico_Air_traffic_control_Waypoint_triangle_2.svg.med.png&amp;imgrefurl=http://www.clker.com/clipart-26921.html&amp;usg=__NrDo2lY4JMDT5Q4x3utt9ayWwv8=&amp;h=289&amp;w=300&amp;sz=18&amp;hl=ro&amp;start=172&amp;zoom=1&amp;itbs=1&amp;tbnid=zj5bRV962fsS-M:&amp;tbnh=112&amp;tbnw=116&amp;prev=/images%3Fq%3Dtriangle%26start%3D160%26hl%3Dro%26sa%3DN%26gbv%3D2%26ndsp%3D20%26tbs%3Disch:1" TargetMode="External"/><Relationship Id="rId6" Type="http://schemas.openxmlformats.org/officeDocument/2006/relationships/image" Target="../media/image17.jpeg"/><Relationship Id="rId7" Type="http://schemas.openxmlformats.org/officeDocument/2006/relationships/hyperlink" Target="http://www.google.ro/imgres?imgurl=http://www.incasa.ro/_files/Image/articole/5/classic_34_red_tricycle.jpg&amp;imgrefurl=http://www.incasa.ro/Jucarii_pentru_copii_2_3_ani_3368_764_1.html&amp;usg=__T1yT5V7n3K3rGzGqBSDfA5Mbbng=&amp;h=301&amp;w=368&amp;sz=16&amp;hl=ro&amp;start=2&amp;zoom=1&amp;itbs=1&amp;tbnid=San5Zc94Op1EKM:&amp;tbnh=100&amp;tbnw=122&amp;prev=/images%3Fq%3Dtricicleta%26hl%3Dro%26gbv%3D2%26tbs%3Disch:1" TargetMode="External"/><Relationship Id="rId8" Type="http://schemas.openxmlformats.org/officeDocument/2006/relationships/image" Target="../media/image18.jpeg"/><Relationship Id="rId9" Type="http://schemas.openxmlformats.org/officeDocument/2006/relationships/image" Target="../media/image19.png"/><Relationship Id="rId10" Type="http://schemas.openxmlformats.org/officeDocument/2006/relationships/image" Target="../media/image20.jpeg"/><Relationship Id="rId11" Type="http://schemas.openxmlformats.org/officeDocument/2006/relationships/image" Target="../media/image21.jpeg"/><Relationship Id="rId12" Type="http://schemas.openxmlformats.org/officeDocument/2006/relationships/slide" Target=""/><Relationship Id="rId13" Type="http://schemas.openxmlformats.org/officeDocument/2006/relationships/image" Target="../media/image10.jpe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www.google.ro/imgres?imgurl=http://wiki.urbandead.com/images/1/1c/Square.gif&amp;imgrefurl=http://wiki.urbandead.com/index.php/Pullin_Square&amp;usg=__hty7q3197FTUlngQTm0ILO4o3Fc=&amp;h=300&amp;w=300&amp;sz=3&amp;hl=ro&amp;start=6&amp;zoom=1&amp;itbs=1&amp;tbnid=ZYF_Ivw9VdmyRM:&amp;tbnh=116&amp;tbnw=116&amp;prev=/images%3Fq%3Dsquare%26hl%3Dro%26gbv%3D2%26tbs%3Disch:1" TargetMode="External"/><Relationship Id="rId3" Type="http://schemas.openxmlformats.org/officeDocument/2006/relationships/image" Target="../media/image23.jpeg"/><Relationship Id="rId4" Type="http://schemas.openxmlformats.org/officeDocument/2006/relationships/hyperlink" Target="http://www.google.ro/imgres?imgurl=http://brainaudit.com/blog/wp-content/uploads/2008/08/chair.jpg&amp;imgrefurl=http://brainaudit.com/blog/tag/brain/&amp;usg=__aqgiOmWDTgwFJUf84rn84uQrZiM=&amp;h=460&amp;w=350&amp;sz=11&amp;hl=ro&amp;start=1&amp;zoom=1&amp;itbs=1&amp;tbnid=YyqgsJOTX_8O9M:&amp;tbnh=128&amp;tbnw=97&amp;prev=/images%3Fq%3Dchair%26hl%3Dro%26gbv%3D2%26tbs%3Disch:1" TargetMode="External"/><Relationship Id="rId5" Type="http://schemas.openxmlformats.org/officeDocument/2006/relationships/image" Target="../media/image24.jpeg"/><Relationship Id="rId6" Type="http://schemas.openxmlformats.org/officeDocument/2006/relationships/hyperlink" Target="http://www.google.ro/imgres?imgurl=http://www.101medicalpractice.scot.nhs.uk/userfiles/image/006_cartoon_car_01.gif&amp;imgrefurl=http://www.101medicalpractice.scot.nhs.uk/car-parking,29245.htm&amp;usg=__9WdYIIwvs84357jj3KUrq8ZFnb0=&amp;h=310&amp;w=400&amp;sz=20&amp;hl=ro&amp;start=12&amp;zoom=1&amp;itbs=1&amp;tbnid=RnqG784fsfi-cM:&amp;tbnh=96&amp;tbnw=124&amp;prev=/images%3Fq%3Dcar%2Bcartoon%26hl%3Dro%26gbv%3D2%26tbs%3Disch:1" TargetMode="External"/><Relationship Id="rId7" Type="http://schemas.openxmlformats.org/officeDocument/2006/relationships/image" Target="../media/image25.jpeg"/><Relationship Id="rId8" Type="http://schemas.openxmlformats.org/officeDocument/2006/relationships/slide" Target="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" Target="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hyperlink" Target="http://www.google.ro/imgres?imgurl=http://www.betterlivingthroughdesign.com/wp-content/themes/bltd/lib/timthumb.php%3Fsrc%3Dhttp://www.betterlivingthroughdesign.com/images/cheers-flutes.jpg%26h%3D%26w%3D513%26zc%3D1&amp;imgrefurl=http://www.betterlivingthroughdesign.com/accessories/celebration-champagne-flute-set-of-6.html&amp;usg=__sH2Tvultgc1ISoucKJw_SJ05G7M=&amp;h=346&amp;w=513&amp;sz=12&amp;hl=ro&amp;start=50&amp;zoom=1&amp;itbs=1&amp;tbnid=IeAM9AXrbG9FkM:&amp;tbnh=88&amp;tbnw=131&amp;prev=/images%3Fq%3DSET%2BOF%2BSIX%26start%3D40%26hl%3Dro%26sa%3DN%26gbv%3D2%26ndsp%3D20%26tbs%3Disch:1" TargetMode="External"/><Relationship Id="rId3" Type="http://schemas.openxmlformats.org/officeDocument/2006/relationships/hyperlink" Target="http://www.google.ro/imgres?imgurl=http://www.betterlivingthroughdesign.com/wp-content/themes/bltd/lib/timthumb.php%3Fsrc%3Dhttp://www.betterlivingthroughdesign.com/images/cheers-flutes.jpg%26h%3D%26w%3D513%26zc%3D1&amp;imgrefurl=http://www.betterlivingthroughdesign.com/accessories/celebration-champagne-flute-set-of-6.html&amp;usg=__sH2Tvultgc1ISoucKJw_SJ05G7M=&amp;h=346&amp;w=513&amp;sz=12&amp;hl=ro&amp;start=50&amp;zoom=1&amp;itbs=1&amp;tbnid=IeAM9AXrbG9FkM:&amp;tbnh=88&amp;tbnw=131&amp;prev=/images%3Fq%3DSET%2BOF%2BSIX%26start%3D40%26hl%3Dro%26sa%3DN%26gbv%3D2%26ndsp%3D20%26tbs%3Disch:1" TargetMode="External"/><Relationship Id="rId4" Type="http://schemas.openxmlformats.org/officeDocument/2006/relationships/hyperlink" Target="http://www.google.ro/imgres?imgurl=http://www.betterlivingthroughdesign.com/wp-content/themes/bltd/lib/timthumb.php%3Fsrc%3Dhttp://www.betterlivingthroughdesign.com/images/cheers-flutes.jpg%26h%3D%26w%3D513%26zc%3D1&amp;imgrefurl=http://www.betterlivingthroughdesign.com/accessories/celebration-champagne-flute-set-of-6.html&amp;usg=__sH2Tvultgc1ISoucKJw_SJ05G7M=&amp;h=346&amp;w=513&amp;sz=12&amp;hl=ro&amp;start=50&amp;zoom=1&amp;itbs=1&amp;tbnid=IeAM9AXrbG9FkM:&amp;tbnh=88&amp;tbnw=131&amp;prev=/images%3Fq%3DSET%2BOF%2BSIX%26start%3D40%26hl%3Dro%26sa%3DN%26gbv%3D2%26ndsp%3D20%26tbs%3Disch:1" TargetMode="External"/><Relationship Id="rId5" Type="http://schemas.openxmlformats.org/officeDocument/2006/relationships/image" Target="../media/image29.jpeg"/><Relationship Id="rId6" Type="http://schemas.openxmlformats.org/officeDocument/2006/relationships/slide" Target="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" Target="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29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32" descr="ddsqdsqd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6"/>
          <p:cNvSpPr/>
          <p:nvPr/>
        </p:nvSpPr>
        <p:spPr>
          <a:xfrm>
            <a:off x="0" y="1052640"/>
            <a:ext cx="7020000" cy="65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Verdana"/>
              </a:rPr>
              <a:t>Cu ce putem asocia numerel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Verdana"/>
              </a:rPr>
              <a:t>Alege cifra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 u="sng">
                <a:solidFill>
                  <a:srgbClr val="009999"/>
                </a:solidFill>
                <a:uFillTx/>
                <a:latin typeface="Arial Black"/>
                <a:hlinkClick r:id="rId3" action="ppaction://hlinksldjump"/>
              </a:rPr>
              <a:t>1</a:t>
            </a:r>
            <a:r>
              <a:rPr b="0" lang="fr-FR" sz="2800" spc="-1" strike="noStrike" u="sng">
                <a:solidFill>
                  <a:srgbClr val="009999"/>
                </a:solidFill>
                <a:uFillTx/>
                <a:latin typeface="Arial Black"/>
                <a:hlinkClick r:id="rId4" action="ppaction://hlinksldjump"/>
              </a:rPr>
              <a:t> </a:t>
            </a:r>
            <a:r>
              <a:rPr b="0" i="1" lang="fr-FR" sz="2800" spc="-1" strike="noStrike">
                <a:solidFill>
                  <a:srgbClr val="006600"/>
                </a:solidFill>
                <a:latin typeface="Arial"/>
              </a:rPr>
              <a:t>        </a:t>
            </a:r>
            <a:r>
              <a:rPr b="0" i="1" lang="fr-FR" sz="6000" spc="-1" strike="noStrike" u="sng">
                <a:solidFill>
                  <a:srgbClr val="009999"/>
                </a:solidFill>
                <a:uFillTx/>
                <a:latin typeface="Castellar"/>
                <a:hlinkClick r:id="rId5" action="ppaction://hlinksldjump"/>
              </a:rPr>
              <a:t>3</a:t>
            </a:r>
            <a:r>
              <a:rPr b="1" lang="fr-FR" sz="6000" spc="-1" strike="noStrike">
                <a:solidFill>
                  <a:srgbClr val="009900"/>
                </a:solidFill>
                <a:latin typeface="Castellar"/>
              </a:rPr>
              <a:t>     </a:t>
            </a:r>
            <a:r>
              <a:rPr b="0" lang="fr-FR" sz="7200" spc="-1" strike="noStrike" u="sng">
                <a:solidFill>
                  <a:srgbClr val="009999"/>
                </a:solidFill>
                <a:uFillTx/>
                <a:latin typeface="Castellar"/>
                <a:hlinkClick r:id="rId6" action="ppaction://hlinksldjump"/>
              </a:rPr>
              <a:t>10</a:t>
            </a:r>
            <a:r>
              <a:rPr b="1" lang="fr-FR" sz="7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ff9900"/>
                </a:solidFill>
                <a:latin typeface="Blackadder ITC"/>
              </a:rPr>
              <a:t>    </a:t>
            </a:r>
            <a:r>
              <a:rPr b="0" lang="fr-FR" sz="8000" spc="-1" strike="noStrike" u="sng">
                <a:solidFill>
                  <a:srgbClr val="009999"/>
                </a:solidFill>
                <a:uFillTx/>
                <a:latin typeface="Blackadder ITC"/>
                <a:hlinkClick r:id="rId7" action="ppaction://hlinksldjump"/>
              </a:rPr>
              <a:t>2</a:t>
            </a:r>
            <a:r>
              <a:rPr b="0" i="1" lang="fr-FR" sz="2800" spc="-1" strike="noStrike">
                <a:solidFill>
                  <a:srgbClr val="006600"/>
                </a:solidFill>
                <a:latin typeface="Arial"/>
              </a:rPr>
              <a:t>           </a:t>
            </a:r>
            <a:r>
              <a:rPr b="0" i="1" lang="fr-FR" sz="54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4</a:t>
            </a:r>
            <a:r>
              <a:rPr b="1" lang="fr-FR" sz="5400" spc="-1" strike="noStrike">
                <a:solidFill>
                  <a:srgbClr val="cc3300"/>
                </a:solidFill>
                <a:latin typeface="Arial"/>
              </a:rPr>
              <a:t>      </a:t>
            </a:r>
            <a:r>
              <a:rPr b="0" i="1" lang="fr-FR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fr-FR" sz="4000" spc="-1" strike="noStrike" u="sng">
                <a:solidFill>
                  <a:srgbClr val="009999"/>
                </a:solidFill>
                <a:uFillTx/>
                <a:latin typeface="Arial Rounded MT Bold"/>
                <a:hlinkClick r:id="rId9" action="ppaction://hlinksldjump"/>
              </a:rPr>
              <a:t>5</a:t>
            </a:r>
            <a:r>
              <a:rPr b="1" i="1" lang="fr-FR" sz="2800" spc="-1" strike="noStrike">
                <a:solidFill>
                  <a:srgbClr val="cc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0" lang="fr-FR" sz="88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6</a:t>
            </a:r>
            <a:r>
              <a:rPr b="0" lang="fr-FR" sz="88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fr-FR" sz="40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7</a:t>
            </a:r>
            <a:r>
              <a:rPr b="0" i="1" lang="fr-FR" sz="2800" spc="-1" strike="noStrike">
                <a:solidFill>
                  <a:srgbClr val="006600"/>
                </a:solidFill>
                <a:latin typeface="Arial"/>
              </a:rPr>
              <a:t>         </a:t>
            </a:r>
            <a:r>
              <a:rPr b="0" lang="fr-FR" sz="96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8</a:t>
            </a:r>
            <a:r>
              <a:rPr b="0" i="1" lang="fr-FR" sz="28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0" lang="fr-FR" sz="28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6600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1757880" y="692280"/>
            <a:ext cx="70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ff0000"/>
                </a:solidFill>
                <a:latin typeface="Verdana"/>
              </a:rPr>
              <a:t>9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468360" y="1413000"/>
            <a:ext cx="604836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Afis"/>
          <p:cNvPicPr/>
          <p:nvPr/>
        </p:nvPicPr>
        <p:blipFill>
          <a:blip r:embed="rId1"/>
          <a:stretch/>
        </p:blipFill>
        <p:spPr>
          <a:xfrm>
            <a:off x="1116000" y="2205000"/>
            <a:ext cx="2367000" cy="3672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foto%20atac%20smirdan"/>
          <p:cNvPicPr/>
          <p:nvPr/>
        </p:nvPicPr>
        <p:blipFill>
          <a:blip r:embed="rId2"/>
          <a:stretch/>
        </p:blipFill>
        <p:spPr>
          <a:xfrm>
            <a:off x="3851280" y="1268280"/>
            <a:ext cx="2857320" cy="20480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92645"/>
          <p:cNvPicPr/>
          <p:nvPr/>
        </p:nvPicPr>
        <p:blipFill>
          <a:blip r:embed="rId3"/>
          <a:stretch/>
        </p:blipFill>
        <p:spPr>
          <a:xfrm>
            <a:off x="3924360" y="3716280"/>
            <a:ext cx="2808360" cy="2183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61150-Royalty-Free-RF-Clipart-Illustration-Of-A-Round-Green-Back-Arrow-Internet-Browser-Button"/>
          <p:cNvPicPr/>
          <p:nvPr/>
        </p:nvPicPr>
        <p:blipFill>
          <a:blip r:embed="rId4"/>
          <a:stretch/>
        </p:blipFill>
        <p:spPr>
          <a:xfrm>
            <a:off x="324000" y="5734080"/>
            <a:ext cx="6476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1029960" y="260280"/>
            <a:ext cx="12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ff0000"/>
                </a:solidFill>
                <a:latin typeface="Verdana"/>
              </a:rPr>
              <a:t>1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468360" y="1413000"/>
            <a:ext cx="604836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numai10"/>
          <p:cNvPicPr/>
          <p:nvPr/>
        </p:nvPicPr>
        <p:blipFill>
          <a:blip r:embed="rId1"/>
          <a:stretch/>
        </p:blipFill>
        <p:spPr>
          <a:xfrm>
            <a:off x="4067280" y="1700280"/>
            <a:ext cx="1834920" cy="1579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tablele"/>
          <p:cNvPicPr/>
          <p:nvPr/>
        </p:nvPicPr>
        <p:blipFill>
          <a:blip r:embed="rId2"/>
          <a:stretch/>
        </p:blipFill>
        <p:spPr>
          <a:xfrm>
            <a:off x="468360" y="1628640"/>
            <a:ext cx="2766960" cy="3711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ImageShack, share photos, pictures, free image hosting, free video hosting, image hosting, video hosting, photo image hosting site, video hosting site"/>
          <p:cNvPicPr/>
          <p:nvPr/>
        </p:nvPicPr>
        <p:blipFill>
          <a:blip r:embed="rId3"/>
          <a:stretch/>
        </p:blipFill>
        <p:spPr>
          <a:xfrm>
            <a:off x="3635280" y="3716280"/>
            <a:ext cx="2735280" cy="1542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1" descr="61150-Royalty-Free-RF-Clipart-Illustration-Of-A-Round-Green-Back-Arrow-Internet-Browser-Button">
            <a:hlinkClick r:id="" action="ppaction://hlinkshowjump?jump=firstslide"/>
          </p:cNvPr>
          <p:cNvPicPr/>
          <p:nvPr/>
        </p:nvPicPr>
        <p:blipFill>
          <a:blip r:embed="rId4"/>
          <a:stretch/>
        </p:blipFill>
        <p:spPr>
          <a:xfrm>
            <a:off x="324000" y="5734080"/>
            <a:ext cx="6476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7"/>
          <p:cNvSpPr/>
          <p:nvPr/>
        </p:nvSpPr>
        <p:spPr>
          <a:xfrm>
            <a:off x="179280" y="189000"/>
            <a:ext cx="223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6600"/>
                </a:solidFill>
                <a:latin typeface="Lucida Sans Unicode"/>
              </a:rPr>
              <a:t>    </a:t>
            </a:r>
            <a:r>
              <a:rPr b="1" lang="fr-FR" sz="8000" spc="-1" strike="noStrike">
                <a:solidFill>
                  <a:srgbClr val="ff3300"/>
                </a:solidFill>
                <a:latin typeface="Verdana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2556000" y="5877000"/>
            <a:ext cx="360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1" descr="images[3]"/>
          <p:cNvPicPr/>
          <p:nvPr/>
        </p:nvPicPr>
        <p:blipFill>
          <a:blip r:embed="rId1"/>
          <a:stretch/>
        </p:blipFill>
        <p:spPr>
          <a:xfrm>
            <a:off x="3276720" y="4292640"/>
            <a:ext cx="1584360" cy="1440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5" descr="Vedeţi imaginea la dimensiunea completă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71640" y="2133720"/>
            <a:ext cx="1692360" cy="1692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7" descr="mama_si_copilul_de_tonitza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508720" y="404640"/>
            <a:ext cx="1181160" cy="1181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1" descr="maruntoiu1259833963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276720" y="2060640"/>
            <a:ext cx="1538280" cy="1800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3" descr="inima">
            <a:hlinkClick r:id="rId8"/>
          </p:cNvPr>
          <p:cNvPicPr/>
          <p:nvPr/>
        </p:nvPicPr>
        <p:blipFill>
          <a:blip r:embed="rId9"/>
          <a:stretch/>
        </p:blipFill>
        <p:spPr>
          <a:xfrm rot="1500600">
            <a:off x="5363640" y="4221000"/>
            <a:ext cx="1086120" cy="1086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5" descr="vTOdm-buze-catifelate">
            <a:hlinkClick r:id="rId10"/>
          </p:cNvPr>
          <p:cNvPicPr/>
          <p:nvPr/>
        </p:nvPicPr>
        <p:blipFill>
          <a:blip r:embed="rId11"/>
          <a:stretch/>
        </p:blipFill>
        <p:spPr>
          <a:xfrm rot="20219400">
            <a:off x="1547280" y="4365720"/>
            <a:ext cx="1028880" cy="981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7" descr="400_F_15975366_JXkhM48M7JJ2bPwQJqNhCK8T5COsphyz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5435640" y="1989000"/>
            <a:ext cx="1181160" cy="1181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9" descr="61150-Royalty-Free-RF-Clipart-Illustration-Of-A-Round-Green-Back-Arrow-Internet-Browser-Button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324000" y="5373720"/>
            <a:ext cx="10080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533880" y="333360"/>
            <a:ext cx="70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ff3300"/>
                </a:solidFill>
                <a:latin typeface="Verdana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468360" y="1413000"/>
            <a:ext cx="604836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Pungura_cu_doi_bani--Ion_Creanga_2147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4720" y="3284640"/>
            <a:ext cx="1677960" cy="2089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12178631741516677465sven222_Cartoon_Eyes_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87280" y="1700280"/>
            <a:ext cx="2160720" cy="720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cartoon-bicycle-7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258920" y="4005360"/>
            <a:ext cx="2158920" cy="1357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Vedeţi imaginea la dimensiunea completă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067280" y="995400"/>
            <a:ext cx="2089080" cy="2038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61150-Royalty-Free-RF-Clipart-Illustration-Of-A-Round-Green-Back-Arrow-Internet-Browser-Butto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324000" y="5373720"/>
            <a:ext cx="10080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533880" y="333360"/>
            <a:ext cx="70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ff3300"/>
                </a:solidFill>
                <a:latin typeface="Verdana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468360" y="1413000"/>
            <a:ext cx="604836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sfanta-treime-de-sf-andrei-rubliov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70080" y="404640"/>
            <a:ext cx="2435400" cy="3033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magi_amended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1280" y="1989000"/>
            <a:ext cx="2087640" cy="1484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12408472991125931808JazzyNico_Air_traffic_control_Waypoint_triangle_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724360" y="620640"/>
            <a:ext cx="1105200" cy="1067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classic_34_red_tricycl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651640" y="2205000"/>
            <a:ext cx="1655640" cy="1154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sk003_1"/>
          <p:cNvPicPr/>
          <p:nvPr/>
        </p:nvPicPr>
        <p:blipFill>
          <a:blip r:embed="rId9"/>
          <a:stretch/>
        </p:blipFill>
        <p:spPr>
          <a:xfrm>
            <a:off x="539640" y="3789360"/>
            <a:ext cx="1944720" cy="2160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" descr="tnr_200x200_21042_afis%20iedul%20cu%20trei%20capre"/>
          <p:cNvPicPr/>
          <p:nvPr/>
        </p:nvPicPr>
        <p:blipFill>
          <a:blip r:embed="rId10"/>
          <a:stretch/>
        </p:blipFill>
        <p:spPr>
          <a:xfrm>
            <a:off x="2771640" y="3789360"/>
            <a:ext cx="1800360" cy="2160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" descr="coperta%20CEI%20TREI%20PORCI"/>
          <p:cNvPicPr/>
          <p:nvPr/>
        </p:nvPicPr>
        <p:blipFill>
          <a:blip r:embed="rId11"/>
          <a:stretch/>
        </p:blipFill>
        <p:spPr>
          <a:xfrm>
            <a:off x="4932360" y="3573360"/>
            <a:ext cx="2016000" cy="2448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5" descr="61150-Royalty-Free-RF-Clipart-Illustration-Of-A-Round-Green-Back-Arrow-Internet-Browser-Button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324000" y="5950080"/>
            <a:ext cx="43164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749880" y="620640"/>
            <a:ext cx="70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ff3300"/>
                </a:solidFill>
                <a:latin typeface="Verdana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68360" y="1413000"/>
            <a:ext cx="604836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four-seasons-of-the-year"/>
          <p:cNvPicPr/>
          <p:nvPr/>
        </p:nvPicPr>
        <p:blipFill>
          <a:blip r:embed="rId1"/>
          <a:stretch/>
        </p:blipFill>
        <p:spPr>
          <a:xfrm>
            <a:off x="2484360" y="1197000"/>
            <a:ext cx="3295800" cy="2486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Squar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76720" y="3959280"/>
            <a:ext cx="1726920" cy="1727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chair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042920" y="3716280"/>
            <a:ext cx="1579680" cy="2084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006_cartoon_car_01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292720" y="4189320"/>
            <a:ext cx="1871640" cy="1449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61150-Royalty-Free-RF-Clipart-Illustration-Of-A-Round-Green-Back-Arrow-Internet-Browser-Button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324000" y="5589720"/>
            <a:ext cx="792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1397520" y="1125360"/>
            <a:ext cx="70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ff3300"/>
                </a:solidFill>
                <a:latin typeface="Verdana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468360" y="1413000"/>
            <a:ext cx="604836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p0za-2"/>
          <p:cNvPicPr/>
          <p:nvPr/>
        </p:nvPicPr>
        <p:blipFill>
          <a:blip r:embed="rId1"/>
          <a:stretch/>
        </p:blipFill>
        <p:spPr>
          <a:xfrm>
            <a:off x="1547640" y="2997360"/>
            <a:ext cx="2376720" cy="2101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five%20fingers"/>
          <p:cNvPicPr/>
          <p:nvPr/>
        </p:nvPicPr>
        <p:blipFill>
          <a:blip r:embed="rId2"/>
          <a:stretch/>
        </p:blipFill>
        <p:spPr>
          <a:xfrm>
            <a:off x="3203640" y="692280"/>
            <a:ext cx="2055600" cy="2089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61150-Royalty-Free-RF-Clipart-Illustration-Of-A-Round-Green-Back-Arrow-Internet-Browser-Button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24000" y="5518080"/>
            <a:ext cx="86328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900000" y="836640"/>
            <a:ext cx="14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fr-FR" sz="7200" spc="-1" strike="noStrike">
                <a:solidFill>
                  <a:srgbClr val="ff3300"/>
                </a:solidFill>
                <a:latin typeface="Verdana"/>
              </a:rPr>
              <a:t>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468360" y="1413000"/>
            <a:ext cx="604836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31097"/>
          <p:cNvPicPr/>
          <p:nvPr/>
        </p:nvPicPr>
        <p:blipFill>
          <a:blip r:embed="rId1"/>
          <a:stretch/>
        </p:blipFill>
        <p:spPr>
          <a:xfrm>
            <a:off x="2916360" y="692280"/>
            <a:ext cx="2381040" cy="205740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7">
            <a:hlinkClick r:id="rId2"/>
          </p:cNvPr>
          <p:cNvSpPr/>
          <p:nvPr/>
        </p:nvSpPr>
        <p:spPr>
          <a:xfrm>
            <a:off x="3948120" y="3009960"/>
            <a:ext cx="12477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9">
            <a:hlinkClick r:id="rId3"/>
          </p:cNvPr>
          <p:cNvSpPr/>
          <p:nvPr/>
        </p:nvSpPr>
        <p:spPr>
          <a:xfrm>
            <a:off x="3948120" y="3009960"/>
            <a:ext cx="12477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1">
            <a:hlinkClick r:id="rId4"/>
          </p:cNvPr>
          <p:cNvSpPr/>
          <p:nvPr/>
        </p:nvSpPr>
        <p:spPr>
          <a:xfrm>
            <a:off x="3708360" y="4869000"/>
            <a:ext cx="30243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dd330"/>
                </a:solidFill>
                <a:latin typeface="Arial"/>
              </a:rPr>
              <a:t>6 ZILE LUCRATO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3" descr="pCPWM-7001018v300x300"/>
          <p:cNvPicPr/>
          <p:nvPr/>
        </p:nvPicPr>
        <p:blipFill>
          <a:blip r:embed="rId5"/>
          <a:stretch/>
        </p:blipFill>
        <p:spPr>
          <a:xfrm>
            <a:off x="826920" y="2757600"/>
            <a:ext cx="2592720" cy="2592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4" descr="61150-Royalty-Free-RF-Clipart-Illustration-Of-A-Round-Green-Back-Arrow-Internet-Browser-Button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24000" y="5589720"/>
            <a:ext cx="792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751400" y="404640"/>
            <a:ext cx="66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ff0000"/>
                </a:solidFill>
                <a:latin typeface="Verdana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468360" y="1413000"/>
            <a:ext cx="604836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rainbow_1600"/>
          <p:cNvPicPr/>
          <p:nvPr/>
        </p:nvPicPr>
        <p:blipFill>
          <a:blip r:embed="rId1"/>
          <a:stretch/>
        </p:blipFill>
        <p:spPr>
          <a:xfrm>
            <a:off x="684360" y="3860640"/>
            <a:ext cx="2303280" cy="1729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7-ancient-wonders"/>
          <p:cNvPicPr/>
          <p:nvPr/>
        </p:nvPicPr>
        <p:blipFill>
          <a:blip r:embed="rId2"/>
          <a:stretch/>
        </p:blipFill>
        <p:spPr>
          <a:xfrm>
            <a:off x="3851280" y="1844640"/>
            <a:ext cx="2624040" cy="3645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20061107-snow7dwarfs"/>
          <p:cNvPicPr/>
          <p:nvPr/>
        </p:nvPicPr>
        <p:blipFill>
          <a:blip r:embed="rId3"/>
          <a:stretch/>
        </p:blipFill>
        <p:spPr>
          <a:xfrm>
            <a:off x="684360" y="1628640"/>
            <a:ext cx="2374920" cy="2070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61150-Royalty-Free-RF-Clipart-Illustration-Of-A-Round-Green-Back-Arrow-Internet-Browser-Button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24000" y="5662440"/>
            <a:ext cx="71892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3"/>
          <p:cNvSpPr/>
          <p:nvPr/>
        </p:nvSpPr>
        <p:spPr>
          <a:xfrm>
            <a:off x="468360" y="1413000"/>
            <a:ext cx="604836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8_martie21"/>
          <p:cNvPicPr/>
          <p:nvPr/>
        </p:nvPicPr>
        <p:blipFill>
          <a:blip r:embed="rId1"/>
          <a:stretch/>
        </p:blipFill>
        <p:spPr>
          <a:xfrm>
            <a:off x="3851280" y="1916280"/>
            <a:ext cx="2486160" cy="3524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octogon"/>
          <p:cNvPicPr/>
          <p:nvPr/>
        </p:nvPicPr>
        <p:blipFill>
          <a:blip r:embed="rId2"/>
          <a:stretch/>
        </p:blipFill>
        <p:spPr>
          <a:xfrm>
            <a:off x="1258920" y="4508640"/>
            <a:ext cx="1228680" cy="122868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  <p:pic>
        <p:nvPicPr>
          <p:cNvPr id="98" name="Picture 9" descr="mipentagrama2bt"/>
          <p:cNvPicPr/>
          <p:nvPr/>
        </p:nvPicPr>
        <p:blipFill>
          <a:blip r:embed="rId3"/>
          <a:stretch/>
        </p:blipFill>
        <p:spPr>
          <a:xfrm>
            <a:off x="971640" y="3068640"/>
            <a:ext cx="1871640" cy="1189080"/>
          </a:xfrm>
          <a:prstGeom prst="rect">
            <a:avLst/>
          </a:prstGeom>
          <a:ln w="9360">
            <a:solidFill>
              <a:srgbClr val="993366"/>
            </a:solidFill>
            <a:miter/>
          </a:ln>
        </p:spPr>
      </p:pic>
      <p:sp>
        <p:nvSpPr>
          <p:cNvPr id="99" name="Rectangle 10"/>
          <p:cNvSpPr/>
          <p:nvPr/>
        </p:nvSpPr>
        <p:spPr>
          <a:xfrm>
            <a:off x="0" y="260280"/>
            <a:ext cx="225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ff9933"/>
                </a:solidFill>
                <a:latin typeface="Arial"/>
              </a:rPr>
              <a:t>      </a:t>
            </a:r>
            <a:r>
              <a:rPr b="1" lang="fr-FR" sz="72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2" descr="decor-halloween-paianjen-cu-ochi-luminosi-45-cm"/>
          <p:cNvPicPr/>
          <p:nvPr/>
        </p:nvPicPr>
        <p:blipFill>
          <a:blip r:embed="rId4"/>
          <a:stretch/>
        </p:blipFill>
        <p:spPr>
          <a:xfrm>
            <a:off x="1332000" y="162864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3" descr="61150-Royalty-Free-RF-Clipart-Illustration-Of-A-Round-Green-Back-Arrow-Internet-Browser-Button"/>
          <p:cNvPicPr/>
          <p:nvPr/>
        </p:nvPicPr>
        <p:blipFill>
          <a:blip r:embed="rId5"/>
          <a:stretch/>
        </p:blipFill>
        <p:spPr>
          <a:xfrm>
            <a:off x="324000" y="5589720"/>
            <a:ext cx="7920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/>
  <dc:language>en-US</dc:language>
  <cp:lastModifiedBy>Florica</cp:lastModifiedBy>
  <dcterms:modified xsi:type="dcterms:W3CDTF">2013-10-30T17:12:31Z</dcterms:modified>
  <cp:revision>72</cp:revision>
  <dc:subject/>
  <dc:title>Green Floral</dc:title>
</cp:coreProperties>
</file>